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C164-D860-436A-9446-DEAE6D12E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533F-F521-4E4B-9599-B8DE0A106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9409-620F-481A-B2B6-95D67B10F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EA5D-C933-4C05-9C83-5F363335A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2C0BC6-9FB0-4765-90EF-484120FB2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5B3C97-9AC8-4139-914A-8A7F5EDA9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EE0DEE-FCFD-4565-A5DA-B5E673720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D1471C-22D1-4CA6-BE0F-352B4408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BCBFCC-DA37-4C94-9962-FD3123E74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4BCF9E-BBDE-459C-9607-066BB73F4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A3EBE8-CB8A-490B-8F40-FEFC182E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C21A-392C-42F5-B68C-60DCC69D3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70DF81-B18E-4FBF-95FE-56C401E5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EE33E2-8390-4FED-9C28-E720977E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079FFB-86A9-40FC-884B-CD5D6A18C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DBF1FA-8EFD-442A-AEAB-DA0FB241C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2577B8-F903-4937-A24C-00179DFDB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556A-7A4C-43C3-9C0F-D328FFAA1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9DB3-936D-4645-A330-3586CC556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7242-5F86-4D2C-BF01-E8AB12E78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FA1F-A710-4C9E-A189-8BB805A71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A70E-5E8A-4D15-9326-06B1FE57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96D7-E36B-461C-A3B6-1ECB8E5E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0E1F-9C92-4CC2-9787-053E3D1F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B9D71-A548-474A-AC79-5DF4C2E8FFA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C7A9F-2303-4D6F-BC1E-4588C556DE4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813276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5400" spc="-1" strike="noStrike">
                <a:solidFill>
                  <a:srgbClr val="e3e3ff"/>
                </a:solidFill>
                <a:latin typeface="Arial"/>
              </a:rPr>
              <a:t>Сабақтың жоспары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79280" y="126792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І. Ұйымдастыру кезеңі – (1 мину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А) Сабаққа кіріспе (Оқушыларды сабақтың жоспарымен, мақсатыме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таныстыру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ІІ. Үй тапсырмасын сұрау – (15 мину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а) Тақырып мазмұнын сұрап шығу (дайындалып келген оқушылардан сұрау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ә) Суретпен жұмыс (құстың зәр шығару жүйесінің құрылысын атау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б) “Біліміңді тексер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в) Қорытын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ІІІ. Жаңа сабақ – (20 мину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А) Кіріспе сө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Ә) Жаңа сабақты түсіндір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Б) Қорытын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ІҮ. Жаңа сабақты пысықтау – (7 мину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А) “Кім жылдам ойынын” өткіз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Ү. Оқушы білімін бағалау – (1 мину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ҮІ. Үй тапсырмасы – (1 мину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000" spc="-1" strike="noStrike">
                <a:solidFill>
                  <a:srgbClr val="e3e3ff"/>
                </a:solidFill>
                <a:latin typeface="Monotype Corsiva"/>
              </a:rPr>
              <a:t>Олар: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3887640" cy="2735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716360" y="1773360"/>
            <a:ext cx="4103640" cy="2735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95280" y="5084640"/>
            <a:ext cx="3745080" cy="6494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Monotype Corsiva"/>
              </a:rPr>
              <a:t>Эритроцитте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716360" y="5084640"/>
            <a:ext cx="4032360" cy="6494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Monotype Corsiva"/>
              </a:rPr>
              <a:t>Лейкоцитте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Monotype Corsiva"/>
              </a:rPr>
              <a:t>IV</a:t>
            </a:r>
            <a:r>
              <a:rPr b="1" lang="kk-KZ" sz="4400" spc="-1" strike="noStrike">
                <a:solidFill>
                  <a:srgbClr val="e3e3ff"/>
                </a:solidFill>
                <a:latin typeface="Monotype Corsiva"/>
              </a:rPr>
              <a:t>. Жаңа сабақты пысықтау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А) “Кім жылдым” ойыны (Оқушыларға жаңа сабақтан сұрақтар қойылады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1. Қанның құрамына қандай заттар кіреді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2. Эритроциттер қандай қызмет атқарады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3. Эритроциттердің организм үшін маңызы қандай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4. Лейкоциттер қандай қызмет атқарады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5. Эритроциттер қандай мүшелерде түзіледі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Monotype Corsiva"/>
              </a:rPr>
              <a:t>6. Қан газ алмасудан басқа тағы қандай қызмет атқарады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Monotype Corsiva"/>
              </a:rPr>
              <a:t>7. Лейкоциттердің эритроциттерден қандай айырмашылығы бар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Monotype Corsiva"/>
              </a:rPr>
              <a:t>8. Эритроциттерді қанның қызыл түйіршігі деп неліктен атайды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Monotype Corsiva"/>
              </a:rPr>
              <a:t>9.Антидене деген н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Monotype Corsiva"/>
              </a:rPr>
              <a:t>10. Табиғи иммунитет деген н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Monotype Corsiva"/>
              </a:rPr>
              <a:t>11. Жасанды иммунитет қалай пайда болады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Monotype Corsiva"/>
              </a:rPr>
              <a:t>V</a:t>
            </a:r>
            <a:r>
              <a:rPr b="0" lang="kk-KZ" sz="7200" spc="-1" strike="noStrike">
                <a:solidFill>
                  <a:srgbClr val="ffffff"/>
                </a:solidFill>
                <a:latin typeface="Monotype Corsiva"/>
              </a:rPr>
              <a:t>. Оқушы білімін бағалау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Monotype Corsiva"/>
              </a:rPr>
              <a:t>VI</a:t>
            </a:r>
            <a:r>
              <a:rPr b="0" lang="kk-KZ" sz="7200" spc="-1" strike="noStrike">
                <a:solidFill>
                  <a:srgbClr val="ffffff"/>
                </a:solidFill>
                <a:latin typeface="Monotype Corsiva"/>
              </a:rPr>
              <a:t>. Үй тапсырмасы: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ookman Old Style"/>
              </a:rPr>
              <a:t>§</a:t>
            </a:r>
            <a:r>
              <a:rPr b="0" lang="kk-KZ" sz="7200" spc="-1" strike="noStrike">
                <a:solidFill>
                  <a:srgbClr val="ffffff"/>
                </a:solidFill>
                <a:latin typeface="Bookman Old Style"/>
              </a:rPr>
              <a:t> 39 оқу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e3e3ff"/>
                </a:solidFill>
                <a:latin typeface="Monotype Corsiva"/>
              </a:rPr>
              <a:t>Үй тапсырмасын сұрау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ff"/>
                </a:solidFill>
                <a:latin typeface="Monotype Corsiva"/>
              </a:rPr>
              <a:t>А) Тақырып мазмұнын сұрап шығ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ff"/>
                </a:solidFill>
                <a:latin typeface="Monotype Corsiva"/>
              </a:rPr>
              <a:t>Ә) Суретпен жұмыс (оқушыларға құстың зәр шығару жүйесінің құрылысын айтқызу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ff"/>
                </a:solidFill>
                <a:latin typeface="Monotype Corsiva"/>
              </a:rPr>
              <a:t>Б) “Біліміңді тексер”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e3e3ff"/>
                </a:solidFill>
                <a:latin typeface="Monotype Corsiva"/>
              </a:rPr>
              <a:t>Ә) Суретпен жұмыс (құстың зәр шығару жүйесінің құрылысын ата)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e3e3ff"/>
                </a:solidFill>
                <a:latin typeface="Monotype Corsiva"/>
              </a:rPr>
              <a:t>Б) “Біліміңді тексер”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 algn="ctr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Көпжасушалы жануарлар организмінде түзілетін сыртқа шығарылуы тиіс заттарға нелер жатады? Ол заттарды тізімнен теріп, дәптерлеріңе жазыңдар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Оттегі                                              - несе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Көмірқышқыл газы                         -  вакуо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Құрылыс материалдары                  - нәжі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Қанның қызыл түйіршіктер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2. </a:t>
            </a: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Сол жақта көпжасушалы жануарлардың зәршығару мүшелері, оң жақта жануарлардың тізімі берілген. Зәршығару мүшелерінің қайсысы қандай жануарға тән екенін анықтап, дәптерлеріңе жазыңдар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А. Бүйрек                           1. шая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Ә. Жасыл без                    2. гид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В. Несепағар                     3. и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Г. Жабынды қабықша       4. паразит амеб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Ғ. Вакуоль                          5. кірпікшелі кебісш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e3e3ff"/>
                </a:solidFill>
                <a:latin typeface="Monotype Corsiva"/>
              </a:rPr>
              <a:t>Жаңа сабақ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Arial"/>
              </a:rPr>
              <a:t>Тақырыб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ookman Old Style"/>
              </a:rPr>
              <a:t>§</a:t>
            </a:r>
            <a:r>
              <a:rPr b="0" lang="kk-KZ" sz="5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kk-KZ" sz="5400" spc="-1" strike="noStrike">
                <a:solidFill>
                  <a:srgbClr val="ffffff"/>
                </a:solidFill>
                <a:latin typeface="Monotype Corsiva"/>
              </a:rPr>
              <a:t>Көпжасушалы жануарлардағы қан, лимфа және қанайналым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e3e3ff"/>
                </a:solidFill>
                <a:latin typeface="Tahoma"/>
              </a:rPr>
              <a:t>Сабақтың мақсат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ff"/>
                </a:solidFill>
                <a:latin typeface="Monotype Corsiva"/>
              </a:rPr>
              <a:t>а)Білімділік: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Көпжасушалы жануарлардағы қан,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лимфа және қанайналым жүйесімен,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құрылысын оқушыларға таныстыру</a:t>
            </a:r>
            <a:r>
              <a:rPr b="1" lang="kk-K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ә)Дамытушылық:</a:t>
            </a:r>
            <a:r>
              <a:rPr b="1" lang="kk-K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өз бетінше қорытынды жасауғ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дағдыландыру, танымдық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қабілеттерін  дамытып, ізденіске баул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б)Тәрбиелік: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Оқушылардың  жануарларға деген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сүйіспеншілігін оята  отырып, тәрбиеле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e3e3ff"/>
                </a:solidFill>
                <a:latin typeface="Monotype Corsiva"/>
              </a:rPr>
              <a:t>Жаңа сабақ жоспар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А) Кіріспе сөз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Ә) Қанның организмде атқаратын қызметі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Б) Қанның құрам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В) Эритроциттер, Лейкоцитте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Г) Организмнің қанайналым жүйесі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Г) Қорытынд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e3e3ff"/>
                </a:solidFill>
                <a:latin typeface="Monotype Corsiva"/>
              </a:rPr>
              <a:t>Қанның құрамы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3600360" cy="5505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9" name=""/>
          <p:cNvGraphicFramePr/>
          <p:nvPr/>
        </p:nvGraphicFramePr>
        <p:xfrm>
          <a:off x="4716360" y="3716280"/>
          <a:ext cx="3742920" cy="2160360"/>
        </p:xfrm>
        <a:graphic>
          <a:graphicData uri="http://schemas.openxmlformats.org/drawingml/2006/table">
            <a:tbl>
              <a:tblPr/>
              <a:tblGrid>
                <a:gridCol w="1006560"/>
                <a:gridCol w="2736360"/>
              </a:tblGrid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Monotype Corsiva"/>
                          <a:ea typeface="Times New Roman"/>
                        </a:rPr>
                        <a:t>қан плазмасы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91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қан жасушалар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3T09:09:49Z</dcterms:created>
  <dc:creator>комп</dc:creator>
  <dc:description/>
  <dc:language>en-US</dc:language>
  <cp:lastModifiedBy>Admin</cp:lastModifiedBy>
  <dcterms:modified xsi:type="dcterms:W3CDTF">2010-01-19T16:39:15Z</dcterms:modified>
  <cp:revision>7</cp:revision>
  <dc:subject/>
  <dc:title>Сабақтың жоспары</dc:title>
</cp:coreProperties>
</file>